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gif" ContentType="image/gif"/>
  <Override PartName="/ppt/media/image10.jpeg" ContentType="image/jpeg"/>
  <Override PartName="/ppt/media/image8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5.gif" ContentType="image/gif"/>
  <Override PartName="/ppt/media/image14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9.jpeg" ContentType="image/jpe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0407-23A6-479F-BDFF-0C5B76A6F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DE73-EE2C-4B47-BCE8-256BCD7E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27F6-BD9D-44D7-96B2-2310815C0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A658-85D6-4E4A-872E-AA46A62C3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9427-C485-493B-A9C8-D9973C4A4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358F-35DC-404C-8E97-FFC1DCD5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65F2-1603-42C7-9990-03A80512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4721-4E45-4D0F-AA0B-9C8B21AC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05F2-D038-4CF7-965B-8832C8A5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6EB0-53C6-4BC3-ACF3-045E867A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BEBC-0E8C-4F50-BA5F-8FA7790C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6BC2-6A28-4B7C-A472-1FDA088C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7AEA2-FE11-4C8E-98D7-9CD9945F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2E74-E602-4EE9-B26B-3F2A4C26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FCB6-6285-4144-87FE-F67C384E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8742-AB26-49E2-8F11-038209749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F7C1-663C-43B2-A001-A0FCE1A49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ED54A-258A-456C-A337-92BD546EC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580A5-BCB8-4AA7-A11C-B3E2E90C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062F5-7C4A-414F-A779-1FEAB03E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41272-8067-44BE-A643-6F764593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6381E-C277-4417-B4C5-33C899E6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501A-EF3E-4901-BB64-1A9F1C25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B8D9A-65F2-4A22-8A46-90CF4C17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602E9-B1B0-4BF8-8337-97450AB0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B0F46-15CF-4FF8-9B1E-F79E7C8F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C3F30-E4E9-4CF3-AFF7-836C08F7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0D837-5093-4CEB-AA2B-006D8655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6A8DC-2469-428A-8267-A7A2D90FE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6EE46-6520-40D3-B257-0213F2BA5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8130E-B606-4E27-8FFD-ABCF95DD5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F8559-BA23-4822-BEFC-5C11511E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98051-7CE5-4269-9A4C-398C5DEE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1BB3-484D-4B24-A0EB-AC3ACEE9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D9E71-8F50-49D3-8670-DA65991F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EB6EE-74BB-4617-85F1-5BE5FAA9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687D0-3B8A-46E8-940E-5FCD9014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19FCC-8652-43D6-B73F-455675C7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BD319-E9B0-4A4F-B8A6-888B6C05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7EF27-01D5-4C69-BD8F-41186CD6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157A4-8CC8-4EA4-B1BF-B47C268B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DF813-6235-4717-BB89-7399CDE4D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03E48-31FF-4FE4-B352-0AFA3F008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BC017-8F01-4E68-B41D-FAE8C8B55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352D-9A74-4C80-AB1C-7A743F5B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5B79C-EB69-4BFD-8B21-CD01F41F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56D9A-C770-4F3C-A0C9-5ECF488A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92EDA-F4E7-4F0F-8768-6D9D3EA1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AC6AE-616C-478F-8CB9-A58C51D4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BCF01-46B9-4983-8377-A132398F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F0529-B20C-4391-9E9B-A319C1B9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B381D-1CED-4E30-AA57-19DE601F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D677D-5BE2-4A1A-9923-27DE11FD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CBF88-6DD4-47F1-9105-2BE114CB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80A5A-8AF1-4CD9-9686-F7E3D0317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208F-37FB-4739-84F5-7287FED3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EBA93-CBF8-43CC-996B-51CEE07CD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A93C6-5879-40FB-B76E-C98F93609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FE165-D87C-4578-B4DA-0100DCED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CB50F-168B-413F-9174-9A1ABF84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6FED0-D8BD-4654-BFE6-7459559C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C7FB4-CE40-4ABA-92FD-4CFB7A38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DFC01-3A98-46FA-A53F-2BE31CD0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C5078-635E-4B2C-840B-94C2ACAF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C107A-FB7F-4CB2-8F12-EC90FCEF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709CC-1B02-49C9-8B4E-CEC8646A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AE9C-7D93-4843-A971-A2AE90D1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2BEDC-CA07-4AAA-9B4A-975DD6BA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AE38B-23F9-46AA-AD87-148B423D7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2BB12-155F-471F-AF62-885C3325D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6CBAF-1174-4D9C-AD23-50BB8BC24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F4F0D-8061-49A4-8A6E-C856986F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D623E-1EAE-46C8-8327-879E5DDD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8223C-FC84-4B49-B432-CA659C6A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B830A-AA18-41F5-B9EE-9C71020D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6BD8E-2EEC-4221-ACCA-D1980975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D383A-AE68-4746-80F5-81087872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374E-B799-4591-996B-46F6D5ED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7868F-25E1-4DF3-AF5C-F926B421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453C0-B112-4911-BF57-A7216568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07655-738D-4D44-9F79-A34DBBF8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10B23-3E66-444B-9418-51D3E51D2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1CC2A-D264-4A82-969D-E4CEC0236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2F1D-B947-4879-952D-1A96858F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069B-BACC-49FE-B78F-84B188F7C6D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5207-5D42-42AD-8CB9-52D69D289DF0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3E5B-9077-4946-9F19-80A2E6E936A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6CC5-DF25-43FE-B32D-E1036A38EBBA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0B97-3E8E-46C1-9129-B615C004841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444E-91FC-47EC-8D23-467941B8471C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8E14-32F3-48C8-AEB6-7E59B0EF5C9E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"/><Relationship Id="rId3" Type="http://schemas.openxmlformats.org/officeDocument/2006/relationships/image" Target="../media/image27.png"/><Relationship Id="rId4" Type="http://schemas.openxmlformats.org/officeDocument/2006/relationships/slide" Target="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itle 1" descr=""/>
          <p:cNvPicPr/>
          <p:nvPr/>
        </p:nvPicPr>
        <p:blipFill>
          <a:blip r:embed="rId1"/>
          <a:stretch/>
        </p:blipFill>
        <p:spPr>
          <a:xfrm>
            <a:off x="530280" y="450720"/>
            <a:ext cx="8070840" cy="1481400"/>
          </a:xfrm>
          <a:prstGeom prst="rect">
            <a:avLst/>
          </a:prstGeom>
          <a:ln w="0">
            <a:noFill/>
          </a:ln>
        </p:spPr>
      </p:pic>
      <p:pic>
        <p:nvPicPr>
          <p:cNvPr id="302" name="Subtitle 2" descr=""/>
          <p:cNvPicPr/>
          <p:nvPr/>
        </p:nvPicPr>
        <p:blipFill>
          <a:blip r:embed="rId2"/>
          <a:stretch/>
        </p:blipFill>
        <p:spPr>
          <a:xfrm>
            <a:off x="450720" y="2266920"/>
            <a:ext cx="8077320" cy="18543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" descr="l_w-cells.jpg"/>
          <p:cNvPicPr/>
          <p:nvPr/>
        </p:nvPicPr>
        <p:blipFill>
          <a:blip r:embed="rId3"/>
          <a:stretch/>
        </p:blipFill>
        <p:spPr>
          <a:xfrm>
            <a:off x="457200" y="3276720"/>
            <a:ext cx="5562720" cy="3267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762120" y="990720"/>
          <a:ext cx="7924680" cy="4394160"/>
        </p:xfrm>
        <a:graphic>
          <a:graphicData uri="http://schemas.openxmlformats.org/drawingml/2006/table">
            <a:tbl>
              <a:tblPr/>
              <a:tblGrid>
                <a:gridCol w="3962160"/>
                <a:gridCol w="3962520"/>
              </a:tblGrid>
              <a:tr h="439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ompound Light Microsco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388c"/>
                          </a:solidFill>
                          <a:uFillTx/>
                          <a:latin typeface="Century Gothic"/>
                        </a:rPr>
                        <a:t>Has 2 or more lenses.  The best ones view at 2000X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6" name="Picture 6" descr="LightMicroscope.gif"/>
          <p:cNvPicPr/>
          <p:nvPr/>
        </p:nvPicPr>
        <p:blipFill>
          <a:blip r:embed="rId1"/>
          <a:stretch/>
        </p:blipFill>
        <p:spPr>
          <a:xfrm>
            <a:off x="1523880" y="1981080"/>
            <a:ext cx="2395800" cy="3048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" name=""/>
          <p:cNvGraphicFramePr/>
          <p:nvPr/>
        </p:nvGraphicFramePr>
        <p:xfrm>
          <a:off x="762120" y="990720"/>
          <a:ext cx="7924680" cy="4394160"/>
        </p:xfrm>
        <a:graphic>
          <a:graphicData uri="http://schemas.openxmlformats.org/drawingml/2006/table">
            <a:tbl>
              <a:tblPr/>
              <a:tblGrid>
                <a:gridCol w="3962160"/>
                <a:gridCol w="3962520"/>
              </a:tblGrid>
              <a:tr h="439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canning Electron Microscope (SEM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388c"/>
                          </a:solidFill>
                          <a:uFillTx/>
                          <a:latin typeface="Century Gothic"/>
                        </a:rPr>
                        <a:t>Shows the surface of an organism in 3-D.  Magnifies up to 60,000X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8" name="Picture 4" descr="diatom.gif"/>
          <p:cNvPicPr/>
          <p:nvPr/>
        </p:nvPicPr>
        <p:blipFill>
          <a:blip r:embed="rId1"/>
          <a:stretch/>
        </p:blipFill>
        <p:spPr>
          <a:xfrm>
            <a:off x="1143000" y="2133720"/>
            <a:ext cx="3200400" cy="2666880"/>
          </a:xfrm>
          <a:prstGeom prst="rect">
            <a:avLst/>
          </a:prstGeom>
          <a:ln w="9360">
            <a:solidFill>
              <a:srgbClr val="e40059"/>
            </a:solidFill>
            <a:miter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"/>
          <p:cNvGraphicFramePr/>
          <p:nvPr/>
        </p:nvGraphicFramePr>
        <p:xfrm>
          <a:off x="762120" y="990720"/>
          <a:ext cx="7924680" cy="4394160"/>
        </p:xfrm>
        <a:graphic>
          <a:graphicData uri="http://schemas.openxmlformats.org/drawingml/2006/table">
            <a:tbl>
              <a:tblPr/>
              <a:tblGrid>
                <a:gridCol w="3962160"/>
                <a:gridCol w="3962520"/>
              </a:tblGrid>
              <a:tr h="439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canning Tunneling Microscope (STM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388c"/>
                          </a:solidFill>
                          <a:uFillTx/>
                          <a:latin typeface="Century Gothic"/>
                        </a:rPr>
                        <a:t>Shows the surface of molecules like DNA.  Can even view individual atom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0" name="Picture 6" descr="2949156241.jpg"/>
          <p:cNvPicPr/>
          <p:nvPr/>
        </p:nvPicPr>
        <p:blipFill>
          <a:blip r:embed="rId1"/>
          <a:stretch/>
        </p:blipFill>
        <p:spPr>
          <a:xfrm>
            <a:off x="1219320" y="2057400"/>
            <a:ext cx="2590560" cy="312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762120" y="990720"/>
          <a:ext cx="7924680" cy="4394160"/>
        </p:xfrm>
        <a:graphic>
          <a:graphicData uri="http://schemas.openxmlformats.org/drawingml/2006/table">
            <a:tbl>
              <a:tblPr/>
              <a:tblGrid>
                <a:gridCol w="3962160"/>
                <a:gridCol w="3962520"/>
              </a:tblGrid>
              <a:tr h="439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Transmission Electron Microscope (TEM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388c"/>
                          </a:solidFill>
                          <a:uFillTx/>
                          <a:latin typeface="Century Gothic"/>
                        </a:rPr>
                        <a:t>Uses beam of electrons.  Create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388c"/>
                          </a:solidFill>
                          <a:uFillTx/>
                          <a:latin typeface="Century Gothic"/>
                        </a:rPr>
                        <a:t>2-D images to see inside a specimen.  Can magnify up to 100,000X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2" name="Picture 4" descr="allium.jpg"/>
          <p:cNvPicPr/>
          <p:nvPr/>
        </p:nvPicPr>
        <p:blipFill>
          <a:blip r:embed="rId1"/>
          <a:stretch/>
        </p:blipFill>
        <p:spPr>
          <a:xfrm>
            <a:off x="457200" y="1981080"/>
            <a:ext cx="3124080" cy="19051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imagesII.jpg"/>
          <p:cNvPicPr/>
          <p:nvPr/>
        </p:nvPicPr>
        <p:blipFill>
          <a:blip r:embed="rId2"/>
          <a:stretch/>
        </p:blipFill>
        <p:spPr>
          <a:xfrm>
            <a:off x="2438280" y="4038480"/>
            <a:ext cx="2057400" cy="236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Titl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223560" cy="123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5" name=""/>
          <p:cNvGraphicFramePr/>
          <p:nvPr/>
        </p:nvGraphicFramePr>
        <p:xfrm>
          <a:off x="228600" y="1397160"/>
          <a:ext cx="8686800" cy="5232240"/>
        </p:xfrm>
        <a:graphic>
          <a:graphicData uri="http://schemas.openxmlformats.org/drawingml/2006/table">
            <a:tbl>
              <a:tblPr/>
              <a:tblGrid>
                <a:gridCol w="1447920"/>
                <a:gridCol w="1523880"/>
                <a:gridCol w="1676520"/>
                <a:gridCol w="1143000"/>
                <a:gridCol w="1447560"/>
                <a:gridCol w="1447920"/>
              </a:tblGrid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ell Typ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rganel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ucle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# of Ce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xamples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ictu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210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e40059"/>
                          </a:solidFill>
                          <a:uFillTx/>
                          <a:latin typeface="Century Gothic"/>
                        </a:rPr>
                        <a:t>Prokaryoti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e40059"/>
                          </a:solidFill>
                          <a:uFillTx/>
                          <a:latin typeface="Century Gothic"/>
                        </a:rPr>
                        <a:t>N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e40059"/>
                          </a:solidFill>
                          <a:uFillTx/>
                          <a:latin typeface="Century Gothic"/>
                        </a:rPr>
                        <a:t>N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e40059"/>
                          </a:solidFill>
                          <a:uFillTx/>
                          <a:latin typeface="Century Goth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40059"/>
                          </a:solidFill>
                          <a:uFillTx/>
                          <a:latin typeface="Century Gothic"/>
                        </a:rPr>
                        <a:t>Bacter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210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e40059"/>
                          </a:solidFill>
                          <a:uFillTx/>
                          <a:latin typeface="Century Gothic"/>
                        </a:rPr>
                        <a:t>Eukaryoti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e40059"/>
                          </a:solidFill>
                          <a:uFillTx/>
                          <a:latin typeface="Century Gothic"/>
                        </a:rPr>
                        <a:t>Lo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e40059"/>
                          </a:solidFill>
                          <a:uFillTx/>
                          <a:latin typeface="Century Gothic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e40059"/>
                          </a:solidFill>
                          <a:uFillTx/>
                          <a:latin typeface="Century Gothic"/>
                        </a:rPr>
                        <a:t>1 or mo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40059"/>
                          </a:solidFill>
                          <a:uFillTx/>
                          <a:latin typeface="Century Gothic"/>
                        </a:rPr>
                        <a:t>Protis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40059"/>
                          </a:solidFill>
                          <a:uFillTx/>
                          <a:latin typeface="Century Gothic"/>
                        </a:rPr>
                        <a:t>Fung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40059"/>
                          </a:solidFill>
                          <a:uFillTx/>
                          <a:latin typeface="Century Gothic"/>
                        </a:rPr>
                        <a:t>Pla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40059"/>
                          </a:solidFill>
                          <a:uFillTx/>
                          <a:latin typeface="Century Gothic"/>
                        </a:rPr>
                        <a:t>Anima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</a:tbl>
          </a:graphicData>
        </a:graphic>
      </p:graphicFrame>
      <p:pic>
        <p:nvPicPr>
          <p:cNvPr id="346" name="Picture 4" descr="prokaryotic_cell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67480" y="2438280"/>
            <a:ext cx="1447920" cy="20574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5" descr="cell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391520" y="4495680"/>
            <a:ext cx="1523880" cy="213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49" name="Content Placeholder 3" descr="prokaryotic_cel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Content Placeholder 3" descr="cel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Title 1" descr=""/>
          <p:cNvPicPr/>
          <p:nvPr/>
        </p:nvPicPr>
        <p:blipFill>
          <a:blip r:embed="rId1"/>
          <a:stretch/>
        </p:blipFill>
        <p:spPr>
          <a:xfrm>
            <a:off x="-6480" y="201600"/>
            <a:ext cx="9156960" cy="1468440"/>
          </a:xfrm>
          <a:prstGeom prst="rect">
            <a:avLst/>
          </a:prstGeom>
          <a:ln w="0">
            <a:noFill/>
          </a:ln>
        </p:spPr>
      </p:pic>
      <p:pic>
        <p:nvPicPr>
          <p:cNvPr id="305" name="Content Placeholder 3" descr="movingamoeba.gif"/>
          <p:cNvPicPr/>
          <p:nvPr/>
        </p:nvPicPr>
        <p:blipFill>
          <a:blip r:embed="rId2"/>
          <a:stretch/>
        </p:blipFill>
        <p:spPr>
          <a:xfrm>
            <a:off x="3200400" y="2133720"/>
            <a:ext cx="2743200" cy="327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1" descr=""/>
          <p:cNvPicPr/>
          <p:nvPr/>
        </p:nvPicPr>
        <p:blipFill>
          <a:blip r:embed="rId1"/>
          <a:stretch/>
        </p:blipFill>
        <p:spPr>
          <a:xfrm>
            <a:off x="-6480" y="122400"/>
            <a:ext cx="9156960" cy="15476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88244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Century Gothic"/>
              </a:rPr>
              <a:t>A.  Anton van Leeuwenhoek: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TextBox 3"/>
          <p:cNvSpPr/>
          <p:nvPr/>
        </p:nvSpPr>
        <p:spPr>
          <a:xfrm>
            <a:off x="304920" y="274320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388c"/>
                </a:solidFill>
                <a:uFillTx/>
                <a:latin typeface="Century Gothic"/>
              </a:rPr>
              <a:t>(1632 – 1723)  First to use the simple microscope and viewed red blood cells as well as bacter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4" descr="leeuwenh.jpg"/>
          <p:cNvPicPr/>
          <p:nvPr/>
        </p:nvPicPr>
        <p:blipFill>
          <a:blip r:embed="rId2"/>
          <a:stretch/>
        </p:blipFill>
        <p:spPr>
          <a:xfrm>
            <a:off x="6400800" y="4114800"/>
            <a:ext cx="1943280" cy="2336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Century Gothic"/>
              </a:rPr>
              <a:t>B.  Robert Hooke: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" name="TextBox 3"/>
          <p:cNvSpPr/>
          <p:nvPr/>
        </p:nvSpPr>
        <p:spPr>
          <a:xfrm>
            <a:off x="914400" y="10666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388c"/>
                </a:solidFill>
                <a:uFillTx/>
                <a:latin typeface="Century Gothic"/>
              </a:rPr>
              <a:t>(1635 – 1703)  Came up with the name “cell”.  Used the compound light microscope to view cork cell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4" descr="150px-RobertHookeMicrographia1665.jpg"/>
          <p:cNvPicPr/>
          <p:nvPr/>
        </p:nvPicPr>
        <p:blipFill>
          <a:blip r:embed="rId1"/>
          <a:stretch/>
        </p:blipFill>
        <p:spPr>
          <a:xfrm>
            <a:off x="1523880" y="3657600"/>
            <a:ext cx="3048120" cy="26668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5" descr="150px-Hooke_Microscope-03000276-FIG-4.jpg"/>
          <p:cNvPicPr/>
          <p:nvPr/>
        </p:nvPicPr>
        <p:blipFill>
          <a:blip r:embed="rId2"/>
          <a:stretch/>
        </p:blipFill>
        <p:spPr>
          <a:xfrm>
            <a:off x="5486400" y="2971800"/>
            <a:ext cx="2590920" cy="365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Century Gothic"/>
              </a:rPr>
              <a:t>C.  Robert Brown: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TextBox 3"/>
          <p:cNvSpPr/>
          <p:nvPr/>
        </p:nvSpPr>
        <p:spPr>
          <a:xfrm>
            <a:off x="609480" y="121932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388c"/>
                </a:solidFill>
                <a:uFillTx/>
                <a:latin typeface="Century Gothic"/>
              </a:rPr>
              <a:t>(1773 – 1858)  Saw the random movement of molecules in plant cells and celled it Brownian Motion.  Today we call it Diffus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Picture 4" descr="180px-Brown_robert.jpg"/>
          <p:cNvPicPr/>
          <p:nvPr/>
        </p:nvPicPr>
        <p:blipFill>
          <a:blip r:embed="rId1"/>
          <a:stretch/>
        </p:blipFill>
        <p:spPr>
          <a:xfrm>
            <a:off x="6019920" y="3733920"/>
            <a:ext cx="2514600" cy="28699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5" descr="brownian.gif"/>
          <p:cNvPicPr/>
          <p:nvPr/>
        </p:nvPicPr>
        <p:blipFill>
          <a:blip r:embed="rId2"/>
          <a:stretch/>
        </p:blipFill>
        <p:spPr>
          <a:xfrm>
            <a:off x="1523880" y="4267080"/>
            <a:ext cx="2590920" cy="167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Century Gothic"/>
              </a:rPr>
              <a:t>D.  Rudolf Virchow: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TextBox 3"/>
          <p:cNvSpPr/>
          <p:nvPr/>
        </p:nvSpPr>
        <p:spPr>
          <a:xfrm>
            <a:off x="685800" y="1143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388c"/>
                </a:solidFill>
                <a:uFillTx/>
                <a:latin typeface="Century Gothic"/>
              </a:rPr>
              <a:t>(1821 – 1902)  Saw the nucleus of the cell as well as cell divis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4" descr="mitosisheader.jpg"/>
          <p:cNvPicPr/>
          <p:nvPr/>
        </p:nvPicPr>
        <p:blipFill>
          <a:blip r:embed="rId1"/>
          <a:stretch/>
        </p:blipFill>
        <p:spPr>
          <a:xfrm>
            <a:off x="304920" y="2895480"/>
            <a:ext cx="4800600" cy="33530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5" descr="220px-Rudolf_Virchow.jpg"/>
          <p:cNvPicPr/>
          <p:nvPr/>
        </p:nvPicPr>
        <p:blipFill>
          <a:blip r:embed="rId2"/>
          <a:stretch/>
        </p:blipFill>
        <p:spPr>
          <a:xfrm>
            <a:off x="6095160" y="3199680"/>
            <a:ext cx="2249640" cy="2738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Century Gothic"/>
              </a:rPr>
              <a:t>E.  Mathias Schleiden: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" name="TextBox 3"/>
          <p:cNvSpPr/>
          <p:nvPr/>
        </p:nvSpPr>
        <p:spPr>
          <a:xfrm>
            <a:off x="457200" y="33526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Century Gothic"/>
              </a:rPr>
              <a:t>F.  Theodore Schwann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Box 4"/>
          <p:cNvSpPr/>
          <p:nvPr/>
        </p:nvSpPr>
        <p:spPr>
          <a:xfrm>
            <a:off x="990720" y="10666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388c"/>
                </a:solidFill>
                <a:uFillTx/>
                <a:latin typeface="Century Gothic"/>
              </a:rPr>
              <a:t>(1804 – 1881)  All plants are made of cell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Picture 5" descr="225px-Matthias_Jacob_Schleiden.jpg"/>
          <p:cNvPicPr/>
          <p:nvPr/>
        </p:nvPicPr>
        <p:blipFill>
          <a:blip r:embed="rId1"/>
          <a:stretch/>
        </p:blipFill>
        <p:spPr>
          <a:xfrm>
            <a:off x="6781680" y="1828800"/>
            <a:ext cx="1981440" cy="2133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6" descr="plantcellwall.jpg"/>
          <p:cNvPicPr/>
          <p:nvPr/>
        </p:nvPicPr>
        <p:blipFill>
          <a:blip r:embed="rId2"/>
          <a:stretch/>
        </p:blipFill>
        <p:spPr>
          <a:xfrm>
            <a:off x="3581280" y="1828800"/>
            <a:ext cx="2057400" cy="1447920"/>
          </a:xfrm>
          <a:prstGeom prst="rect">
            <a:avLst/>
          </a:prstGeom>
          <a:ln w="0">
            <a:noFill/>
          </a:ln>
        </p:spPr>
      </p:pic>
      <p:sp>
        <p:nvSpPr>
          <p:cNvPr id="327" name="TextBox 7"/>
          <p:cNvSpPr/>
          <p:nvPr/>
        </p:nvSpPr>
        <p:spPr>
          <a:xfrm>
            <a:off x="838080" y="41148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388c"/>
                </a:solidFill>
                <a:uFillTx/>
                <a:latin typeface="Century Gothic"/>
              </a:rPr>
              <a:t>(1810 – 1882)  All animals are made of cell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8" descr="theodor-schwann-1-sized.jpg"/>
          <p:cNvPicPr/>
          <p:nvPr/>
        </p:nvPicPr>
        <p:blipFill>
          <a:blip r:embed="rId3"/>
          <a:stretch/>
        </p:blipFill>
        <p:spPr>
          <a:xfrm>
            <a:off x="7162920" y="4876920"/>
            <a:ext cx="1676160" cy="17748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9" descr="3459406092.jpg"/>
          <p:cNvPicPr/>
          <p:nvPr/>
        </p:nvPicPr>
        <p:blipFill>
          <a:blip r:embed="rId4"/>
          <a:stretch/>
        </p:blipFill>
        <p:spPr>
          <a:xfrm>
            <a:off x="4572000" y="5105520"/>
            <a:ext cx="2048040" cy="1304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-6480" y="262080"/>
            <a:ext cx="9156960" cy="14079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533160" y="1676160"/>
            <a:ext cx="83055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6400" indent="-743040">
              <a:spcBef>
                <a:spcPts val="901"/>
              </a:spcBef>
              <a:buClr>
                <a:srgbClr val="ff388c"/>
              </a:buClr>
              <a:buSzPct val="80000"/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Century Gothic"/>
              </a:rPr>
              <a:t>All organisms are </a:t>
            </a:r>
            <a:r>
              <a:rPr b="1" lang="en-US" sz="3600" spc="-1" strike="noStrike" u="sng">
                <a:solidFill>
                  <a:srgbClr val="ff388c"/>
                </a:solidFill>
                <a:uFillTx/>
                <a:latin typeface="Century Gothic"/>
              </a:rPr>
              <a:t>composed of cells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806400" indent="-743040">
              <a:spcBef>
                <a:spcPts val="901"/>
              </a:spcBef>
              <a:buClr>
                <a:srgbClr val="ff388c"/>
              </a:buClr>
              <a:buSzPct val="80000"/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Century Gothic"/>
              </a:rPr>
              <a:t>The cell is the </a:t>
            </a:r>
            <a:r>
              <a:rPr b="1" lang="en-US" sz="3600" spc="-1" strike="noStrike" u="sng">
                <a:solidFill>
                  <a:srgbClr val="ff388c"/>
                </a:solidFill>
                <a:uFillTx/>
                <a:latin typeface="Century Gothic"/>
              </a:rPr>
              <a:t>basic unit of life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806400" indent="-743040">
              <a:spcBef>
                <a:spcPts val="901"/>
              </a:spcBef>
              <a:buClr>
                <a:srgbClr val="ff388c"/>
              </a:buClr>
              <a:buSzPct val="80000"/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Century Gothic"/>
              </a:rPr>
              <a:t>All cells come from </a:t>
            </a:r>
            <a:r>
              <a:rPr b="1" lang="en-US" sz="3600" spc="-1" strike="noStrike" u="sng">
                <a:solidFill>
                  <a:srgbClr val="ff388c"/>
                </a:solidFill>
                <a:uFillTx/>
                <a:latin typeface="Century Gothic"/>
              </a:rPr>
              <a:t>pre-existing cells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itle 1" descr=""/>
          <p:cNvPicPr/>
          <p:nvPr/>
        </p:nvPicPr>
        <p:blipFill>
          <a:blip r:embed="rId1"/>
          <a:stretch/>
        </p:blipFill>
        <p:spPr>
          <a:xfrm>
            <a:off x="-6480" y="262080"/>
            <a:ext cx="9205920" cy="14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3" name=""/>
          <p:cNvGraphicFramePr/>
          <p:nvPr/>
        </p:nvGraphicFramePr>
        <p:xfrm>
          <a:off x="762120" y="1397160"/>
          <a:ext cx="7924680" cy="4394160"/>
        </p:xfrm>
        <a:graphic>
          <a:graphicData uri="http://schemas.openxmlformats.org/drawingml/2006/table">
            <a:tbl>
              <a:tblPr/>
              <a:tblGrid>
                <a:gridCol w="3962160"/>
                <a:gridCol w="3962520"/>
              </a:tblGrid>
              <a:tr h="439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imple Light Microsco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388c"/>
                          </a:solidFill>
                          <a:uFillTx/>
                          <a:latin typeface="Century Gothic"/>
                        </a:rPr>
                        <a:t>Has only 1 lens (like a magnifying glas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4" name="Picture 4" descr="Leeuwenhoek Microscope.bmp"/>
          <p:cNvPicPr/>
          <p:nvPr/>
        </p:nvPicPr>
        <p:blipFill>
          <a:blip r:embed="rId2"/>
          <a:stretch/>
        </p:blipFill>
        <p:spPr>
          <a:xfrm>
            <a:off x="1219320" y="2895480"/>
            <a:ext cx="3047760" cy="2086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3T18:19:51Z</dcterms:created>
  <dc:creator>HOME</dc:creator>
  <dc:description/>
  <dc:language>en-US</dc:language>
  <cp:lastModifiedBy>teacher</cp:lastModifiedBy>
  <dcterms:modified xsi:type="dcterms:W3CDTF">2009-02-16T12:08:57Z</dcterms:modified>
  <cp:revision>10</cp:revision>
  <dc:subject/>
  <dc:title>Notes: Cell History</dc:title>
</cp:coreProperties>
</file>